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wmf" ContentType="image/x-wmf"/>
  <Override PartName="/ppt/media/image13.jpeg" ContentType="image/jpeg"/>
  <Override PartName="/ppt/media/image3.wmf" ContentType="image/x-wmf"/>
  <Override PartName="/ppt/media/image26.jpeg" ContentType="image/jpeg"/>
  <Override PartName="/ppt/media/image15.gif" ContentType="image/gif"/>
  <Override PartName="/ppt/media/image25.png" ContentType="image/png"/>
  <Override PartName="/ppt/media/image24.jpeg" ContentType="image/jpeg"/>
  <Override PartName="/ppt/media/image22.png" ContentType="image/png"/>
  <Override PartName="/ppt/media/image4.wmf" ContentType="image/x-wmf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00B6-3FE2-4196-852F-74F86D626FD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selected excer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nia the Tree, Hatchet, Love that Dog, Giving Tree, Harriet the Spy, Just Juice, Porch Lies (make copies of excerpts for teachers to use) – pairs reading/books stacked in the middle of the table (choose what you are going to read with partner – try to choose a book you are not familiar wi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 out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p of a wax muse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to Unit 1 to share suggested learning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out markers/chart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ake what you have read and create a graphic organizer for all of the books that were read at your table…turn to page 7 to see parts of the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all the parts as best you can, may have to leave some blank if you just read an excerpt from your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continue this chart throughout the year with every read-aloud that you do- does not end at the end of unit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around the room…during break get up and walk around to read what other teachers wrote about their books/excerpts (Gallery Wal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289E-B813-488D-B0B7-56273ADC141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 out county writing baseline assessment and writing 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think they are done…tell them to get up (with their partner and their book/sticky note), find a set of partners not from your table, stop and share with a new set of partners – share your experience/evid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5B3C-6546-41A5-AA45-2B06441181D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 out county word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words to the wall throughout the year…don’t start with all the words on your wall, teach about 5 words/week/ discuss/use in sentences/ other activities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o the wall, teach students to use the wall during Writer’s Workshop/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icit instruction in words – sounds and patterns = Word Study (not random wor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pelling inventory to drive your instruction…group students according to needs, partner with other teachers on your grad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01DD-85B3-4F0A-9B5B-A0B033B344B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t to digest…here are resources for you to go to and look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864F-C60E-416D-A838-4481CC983BD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ecome familiar with poems associated with this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ourage to use with students and discuss changes characters undergo in the po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continue this chart throughout the year with every read-aloud that you do- does not end at the end of unit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around the room…during break get up and walk around to read what other teachers wrote about their books/excerpts (Gallery Wal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5C38-8D71-4D33-8C2D-E9ADDE88102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and provide description of n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to restate the description/explanation in their own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to construct a symbol, picture, graphic of the 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tudents opportunities to add to their knowledge of the terms in their note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tudents the opportunity to review the terms with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students in games that allow them to play with the ter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and provide description of n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to restate the description/explanation in their own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to construct a symbol, picture, graphic of the 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tudents opportunities to add to their knowledge of the terms in their note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tudents the opportunity to review the terms with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students in games that allow them to play with the ter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layed a game at the beginning: Classroom Feud – could be used at step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JR Character traits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C7F6-4261-4695-9A30-F936FECC9AC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about resources being ordered by the coun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-2 - Searchasaurus/Gale Info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-5 – Grolier Online/Infotrac Kids/Kids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 topics – get sites appropriate for K-12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row searches by key words, text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 by reading level (lexi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700 magazines (Ranger Rick, Highlights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priate image searches – KidSear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velist K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 kids to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5FB1-4957-42F1-BB1F-8BC76A3133F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writing your own bio-poem to use as an example with students/construction paper, markers/deco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if tim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part 1 first day of school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around the room…during break get up and walk around to read what other teachers wrote about their books/excerpts (Gallery Wal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CF7E-ACA3-47D4-9DF6-0146A1D5C92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out pacing guides, look at next two slides (explain)…give time for teachers to take a closer l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asize guided reading as still an integral part….could choose books that fit with th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out – connected literacy model expectations (with time guid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 out – year at a g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links (click on picture to pull up docu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A97-1FEF-47DA-A7F7-D0A9A1FA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BDC-D373-4C1A-BDF9-F0530D94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DA8-2213-4688-82CB-36B3B3AE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489-0A3B-433A-BA25-FF01A238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4252-03D9-472F-BF4E-013E0C16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EE59-1DAA-402A-AE26-D796E9DF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1960-F9C1-4D20-BEFB-82B4CC48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38A4-1BF4-4D3E-859F-91D77481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68C9-F233-4F9D-A97C-548E803E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A4ED-8F54-48E7-AC0F-32EAD855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3CC0-3DB4-4894-AE38-960E3934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EF4-E3AA-4C13-87E8-D336F0A6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1A80-60D6-4854-B769-1D78BF68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0E01-39C7-4DEE-A5B3-13A07D0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587B-1D4C-451E-90F2-F735E1B3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D6F8-ADB6-4727-A947-3522E44B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E6BF-37F4-45D5-AED3-36A69158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97E-F4CC-4355-9182-286C4687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E0D-B7A0-4623-B611-578ACB01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13D-A88A-4D89-B6EC-7828FEB2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F17-923C-4B33-A52A-03595CD7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3D6-020C-40F8-91DE-7ED8A3B9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850-AE37-4745-B6D2-AFB28F03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478-5568-4BF5-9CFC-5BB75239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ACCD-4A96-4926-94E7-9E81B1DB0D6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094E-DD38-41DE-B77A-5F76DC84E71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tdlEktR8Ks" TargetMode="External"/><Relationship Id="rId2" Type="http://schemas.openxmlformats.org/officeDocument/2006/relationships/hyperlink" Target="file:///RCS_Unit_Grade_4_Unit_1_changes%20over%20time.doc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wZqJB_8dQ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amazon.com/gp/product/images/0135145775/ref=dp_image_0/183-7857449-1603554?ie=UTF8&amp;n=283155&amp;s=books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amazon.com/gp/product/images/0135145805/ref=dp_image_0?ie=UTF8&amp;n=283155&amp;s=books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www.amazon.com/Words-Their-Derivational-Relations-Spellers/dp/0135145783/ref=sr_1_7?s=books&amp;ie=UTF8&amp;qid=1343315355&amp;sr=1-7&amp;keywords=words+their+way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1f497d"/>
                </a:solidFill>
                <a:latin typeface="Palatino Linotype"/>
              </a:rPr>
              <a:t>RCS ELA</a:t>
            </a:r>
            <a:br>
              <a:rPr sz="6200"/>
            </a:br>
            <a:r>
              <a:rPr b="0" lang="en-US" sz="6200" spc="-1" strike="noStrike">
                <a:solidFill>
                  <a:srgbClr val="1f497d"/>
                </a:solidFill>
                <a:latin typeface="Palatino Linotype"/>
              </a:rPr>
              <a:t>Common Core and Essential Standards Training</a:t>
            </a:r>
            <a:br>
              <a:rPr sz="6200"/>
            </a:br>
            <a:r>
              <a:rPr b="0" lang="en-US" sz="6600" spc="-1" strike="noStrike">
                <a:solidFill>
                  <a:srgbClr val="1f497d"/>
                </a:solidFill>
                <a:latin typeface="Palatino Linotype"/>
              </a:rPr>
              <a:t>Grade 4</a:t>
            </a:r>
            <a:endParaRPr b="0" lang="en-US" sz="66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entury Gothic"/>
              </a:rPr>
              <a:t>August 16, 2012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entury Gothic"/>
              </a:rPr>
              <a:t>Presenters: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entury Gothic"/>
              </a:rPr>
              <a:t>Katie Eller (keller@randolph.k12.nc.us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entury Gothic"/>
              </a:rPr>
              <a:t>Angela Harris (aharris@randolph.k12.nc.us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324480" y="4178160"/>
            <a:ext cx="26337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draft_lens18268382module152170337photo_1312770013time-to-read"/>
          <p:cNvPicPr/>
          <p:nvPr/>
        </p:nvPicPr>
        <p:blipFill>
          <a:blip r:embed="rId2"/>
          <a:stretch/>
        </p:blipFill>
        <p:spPr>
          <a:xfrm>
            <a:off x="2133720" y="9907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A Closer Look at 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Unit One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it Goal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earning Target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ssential Question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Performance Task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Suggested Learning Experienc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it Materials and Resourc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ocabulary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ther Resources/Hyperlink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latino Linotype"/>
              </a:rPr>
              <a:t>Create a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Palatino Linotype"/>
              </a:rPr>
              <a:t>Graphic Organizer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page 7 of Unit 1 to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reate a Graphic Organizer about your book/excerpt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ill in as many of the categories as you can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Gallery Walk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5" name="Picture 5" descr="Cartoon_marker"/>
          <p:cNvPicPr/>
          <p:nvPr/>
        </p:nvPicPr>
        <p:blipFill>
          <a:blip r:embed="rId2"/>
          <a:stretch/>
        </p:blipFill>
        <p:spPr>
          <a:xfrm>
            <a:off x="3048120" y="3429000"/>
            <a:ext cx="250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Assessment Updates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riting Assessment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des 3-5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Only 3 samples will be required for the writing portfolio beginning in 2012-2013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8" name="Picture 6" descr="Notepad"/>
          <p:cNvPicPr/>
          <p:nvPr/>
        </p:nvPicPr>
        <p:blipFill>
          <a:blip r:embed="rId1"/>
          <a:stretch/>
        </p:blipFill>
        <p:spPr>
          <a:xfrm>
            <a:off x="3505320" y="4114800"/>
            <a:ext cx="23619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609480" y="152280"/>
          <a:ext cx="7925040" cy="6656400"/>
        </p:xfrm>
        <a:graphic>
          <a:graphicData uri="http://schemas.openxmlformats.org/drawingml/2006/table">
            <a:tbl>
              <a:tblPr/>
              <a:tblGrid>
                <a:gridCol w="1355760"/>
                <a:gridCol w="2111400"/>
                <a:gridCol w="2111400"/>
                <a:gridCol w="2346480"/>
              </a:tblGrid>
              <a:tr h="43344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0516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it On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arter 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seline 2-day Writing Assessment (Required for RT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unching Writers’ 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arrative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Narrative – linked to Unit Goals under Writ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seline 2-day Writing Assessment (Required for RT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unching Writers’ 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arrative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Narrative – linked to Unit Goals under Writ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seline 2-day Writing Assessment (Required for RT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unching Writers’ 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/Explanatory 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Info/Explanatory – linked to the Performance Tas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it Two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arter Tw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inion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it Thre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arter Tw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focu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– may link to performance task in unit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focu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– linked to Unit Goals under Writ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inion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Opinion – On Dema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it Four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arter Thr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inion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inion – linked to Unit Goals under Writ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inion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Opinion – linked to Unit Goals under Writ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arrative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Narrative – linked to the performance tas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arter F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dditional writing goals will be taught in quarter 4 according to the ELA Unit pacing gui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latino Linotype"/>
              </a:rPr>
              <a:t>Let’s Talk!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NK:  Think back to a character from your book/excerpt.  Do any of the character’s experiences remind you of an experience from your own life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:  Briefly describe your common experience on a sticky note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IR SHARE:  Share your sticky note with your partner. Find text evidence that supports how your experience was similar to the character’s.  Flag it in your book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New RCS Word Lists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265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High Frequency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Phonics/Word Study Fo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ents use in their wr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se word wall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 per week or as oddballs during phonics s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se spelling inventory results to determine starting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ocus on one word study principle (short 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ort words/pi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4"/>
          <p:cNvSpPr/>
          <p:nvPr/>
        </p:nvSpPr>
        <p:spPr>
          <a:xfrm>
            <a:off x="533520" y="4724280"/>
            <a:ext cx="8076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Common Core Standards and RCS Suggested Word Study Sequence (K-5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Palatino Linotype"/>
                <a:hlinkClick r:id="rId1"/>
              </a:rPr>
              <a:t>Why Word Study Matte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Palatino Linotype"/>
              </a:rPr>
              <a:t>Differentiate!</a:t>
            </a:r>
            <a:endParaRPr b="0" lang="en-US" sz="48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33520" y="47242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47" name="Picture 17" descr="013514843X"/>
          <p:cNvPicPr/>
          <p:nvPr/>
        </p:nvPicPr>
        <p:blipFill>
          <a:blip r:embed="rId1"/>
          <a:stretch/>
        </p:blipFill>
        <p:spPr>
          <a:xfrm>
            <a:off x="533520" y="1523880"/>
            <a:ext cx="1909800" cy="2514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Words Their Way Word Sorts for Syllables and Affixes Spellers (2nd Edition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523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Words Their Way: Word Sorts for Letter Name - Alphabetic Spellers (2nd Edition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4114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Product Detail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438280" y="4114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7" descr="Word Journeys: Assessment-Guided Phonics, Spelling, and Vocabulary Instruction"/>
          <p:cNvPicPr/>
          <p:nvPr/>
        </p:nvPicPr>
        <p:blipFill>
          <a:blip r:embed="rId8"/>
          <a:stretch/>
        </p:blipFill>
        <p:spPr>
          <a:xfrm>
            <a:off x="5029200" y="21337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Palatino Linotype"/>
              </a:rPr>
              <a:t>Let’s Practice!</a:t>
            </a:r>
            <a:endParaRPr b="0" lang="en-US" sz="4800" spc="-1" strike="noStrike">
              <a:solidFill>
                <a:srgbClr val="1f497d"/>
              </a:solidFill>
              <a:latin typeface="Palatino Linotype"/>
            </a:endParaRPr>
          </a:p>
        </p:txBody>
      </p:sp>
      <p:pic>
        <p:nvPicPr>
          <p:cNvPr id="153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Palatino Linotype"/>
              </a:rPr>
              <a:t>Additional </a:t>
            </a:r>
            <a:br>
              <a:rPr sz="4800"/>
            </a:br>
            <a:r>
              <a:rPr b="0" lang="en-US" sz="4800" spc="-1" strike="noStrike">
                <a:solidFill>
                  <a:srgbClr val="1f497d"/>
                </a:solidFill>
                <a:latin typeface="Palatino Linotype"/>
              </a:rPr>
              <a:t>Word Study Resources</a:t>
            </a:r>
            <a:endParaRPr b="0" lang="en-US" sz="48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09480" y="1752480"/>
            <a:ext cx="8001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Words Their Way: Word Study in Action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(video tutorials, assessment, and ELL tip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Word Study Book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Agenda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roduction to RCS Integrated ELA Pacing Gui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andolph County Connected Literacy Expectation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ear at a Glanc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Closer Look at Unit One – (Changes Over Time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sessment Updat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CS Revised High Frequency and Spelling List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latino Linotype"/>
              </a:rPr>
              <a:t>Dramatization/Fluency using Poetry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oose one of the poems from this unit to read and discuss with a partner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ow does it fit the theme of the unit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rform the poem as a duet with a partner at your table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Vocabulary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855880" cy="4648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http://webs.rps205.com/curriculum/ssandvoc/images/E51DC4F5E922490DBD1EEE422A747E4A.jpg"/>
          <p:cNvPicPr/>
          <p:nvPr/>
        </p:nvPicPr>
        <p:blipFill>
          <a:blip r:embed="rId2"/>
          <a:stretch/>
        </p:blipFill>
        <p:spPr>
          <a:xfrm rot="20743200">
            <a:off x="708120" y="2339640"/>
            <a:ext cx="1725480" cy="230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http://media-cache0.pinterest.com/upload/195836283765936847_03EfODJI_b.jpg"/>
          <p:cNvPicPr/>
          <p:nvPr/>
        </p:nvPicPr>
        <p:blipFill>
          <a:blip r:embed="rId3"/>
          <a:stretch/>
        </p:blipFill>
        <p:spPr>
          <a:xfrm rot="798600">
            <a:off x="6705360" y="2371320"/>
            <a:ext cx="18288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28600" y="636480"/>
            <a:ext cx="8558280" cy="519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K-5 Wiki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http://randolphk-5instruction.wikispaces.com/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Grade 3 Readers Notebook Sample from Jan Richardson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http://www.janrichardsonguidedreading.com/resources-1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NC Wise Owl - Your Google Alternative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http://www.ncwiseowl.org/zones/elementary/index.ht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4</a:t>
            </a:r>
            <a:r>
              <a:rPr b="0" lang="en-US" sz="5400" spc="-1" strike="noStrike" baseline="30000">
                <a:solidFill>
                  <a:srgbClr val="1f497d"/>
                </a:solidFill>
                <a:latin typeface="Palatino Linotype"/>
              </a:rPr>
              <a:t>th</a:t>
            </a: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 Grade Resources and Links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B7B5-8239-4D62-B54C-612338437E2F}" type="slidenum">
              <a:rPr b="0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latino Linotype"/>
              </a:rPr>
              <a:t>Bio-Poem ~ Part 1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 bio-poem about yourself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the construction paper and any other supplies to create an example to share with your student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io-Poem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ok at Part 2 (page 9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Ticket Out the Door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hat are you most excited about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hat burning question do you have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70" name="Picture 16" descr="http://jared110.files.wordpress.com/2010/10/happy-dance-cartoon.jpg?w=450"/>
          <p:cNvPicPr/>
          <p:nvPr/>
        </p:nvPicPr>
        <p:blipFill>
          <a:blip r:embed="rId1"/>
          <a:stretch/>
        </p:blipFill>
        <p:spPr>
          <a:xfrm>
            <a:off x="3200400" y="36576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RCS Integrated ELA Pacing Guides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ganized by ELA Units of Study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First Quarter – 1 unit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Second and Third Quarter – 2 units each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Fourth Quarter – 1 unit 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Literacy strands/subjects by colors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l Science/Social Studies/Information-Technology and Healthful Living Standards included (no curriculum cards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ost standards are bold/Clarifying objectives are not bold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ome objectives are spiraled. 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Let’s take a closer look!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pic>
        <p:nvPicPr>
          <p:cNvPr id="104" name="Picture 4" descr="MC900437797[1]"/>
          <p:cNvPicPr/>
          <p:nvPr/>
        </p:nvPicPr>
        <p:blipFill>
          <a:blip r:embed="rId1"/>
          <a:stretch/>
        </p:blipFill>
        <p:spPr>
          <a:xfrm>
            <a:off x="2819520" y="1981080"/>
            <a:ext cx="396216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RCS Connected Literacy Expectations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grpSp>
        <p:nvGrpSpPr>
          <p:cNvPr id="108" name="Group 16"/>
          <p:cNvGrpSpPr/>
          <p:nvPr/>
        </p:nvGrpSpPr>
        <p:grpSpPr>
          <a:xfrm>
            <a:off x="533520" y="1676520"/>
            <a:ext cx="8229600" cy="4419360"/>
            <a:chOff x="533520" y="1676520"/>
            <a:chExt cx="8229600" cy="4419360"/>
          </a:xfrm>
        </p:grpSpPr>
        <p:sp>
          <p:nvSpPr>
            <p:cNvPr id="109" name="Line 11"/>
            <p:cNvSpPr/>
            <p:nvPr/>
          </p:nvSpPr>
          <p:spPr>
            <a:xfrm>
              <a:off x="2590920" y="30481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H="1">
              <a:off x="5257800" y="281952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 flipH="1">
              <a:off x="5714640" y="396252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 flipV="1">
              <a:off x="2209680" y="426672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 flipV="1">
              <a:off x="4952520" y="4191120"/>
              <a:ext cx="228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4" name="AutoShape 5"/>
            <p:cNvSpPr/>
            <p:nvPr/>
          </p:nvSpPr>
          <p:spPr>
            <a:xfrm>
              <a:off x="3048120" y="3352680"/>
              <a:ext cx="2743200" cy="990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Palatino Linotype"/>
                </a:rPr>
                <a:t>Connected Literacy</a:t>
              </a:r>
              <a:endParaRPr b="0" lang="en-US" sz="24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6705720" y="3124080"/>
              <a:ext cx="2057400" cy="1371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Whole Group/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Shared Reading/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Read Aloud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4343400" y="4724280"/>
              <a:ext cx="2057400" cy="1371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Guided Reading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914400" y="1981080"/>
              <a:ext cx="2057400" cy="13716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Writer’s Workshop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533520" y="4267080"/>
              <a:ext cx="2057400" cy="13716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Word Study and 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Vocabulary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4343400" y="1676520"/>
              <a:ext cx="2057400" cy="1371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Independent 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Reading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pic>
        <p:nvPicPr>
          <p:cNvPr id="120" name="Picture 18" descr="girls2"/>
          <p:cNvPicPr/>
          <p:nvPr/>
        </p:nvPicPr>
        <p:blipFill>
          <a:blip r:embed="rId1"/>
          <a:stretch/>
        </p:blipFill>
        <p:spPr>
          <a:xfrm>
            <a:off x="1865160" y="5261040"/>
            <a:ext cx="1749600" cy="131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2176200" cy="1639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"/>
          <p:cNvPicPr/>
          <p:nvPr/>
        </p:nvPicPr>
        <p:blipFill>
          <a:blip r:embed="rId3"/>
          <a:stretch/>
        </p:blipFill>
        <p:spPr>
          <a:xfrm>
            <a:off x="3035160" y="1663560"/>
            <a:ext cx="16592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whew1"/>
          <p:cNvPicPr/>
          <p:nvPr/>
        </p:nvPicPr>
        <p:blipFill>
          <a:blip r:embed="rId1"/>
          <a:stretch/>
        </p:blipFill>
        <p:spPr>
          <a:xfrm>
            <a:off x="5715000" y="3505320"/>
            <a:ext cx="1600200" cy="1444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Year at a Glance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Comprehension Toolki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an Richardson Strateg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ucy Calkins Units of Study for Teaching Writing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6" name="Picture 6" descr="Whew_Full"/>
          <p:cNvPicPr/>
          <p:nvPr/>
        </p:nvPicPr>
        <p:blipFill>
          <a:blip r:embed="rId2"/>
          <a:stretch/>
        </p:blipFill>
        <p:spPr>
          <a:xfrm>
            <a:off x="3124080" y="4038480"/>
            <a:ext cx="25909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3:30:52Z</dcterms:created>
  <dc:creator>Harrell, Kelli</dc:creator>
  <dc:description/>
  <dc:language>en-US</dc:language>
  <cp:lastModifiedBy>Harris, Angela</cp:lastModifiedBy>
  <dcterms:modified xsi:type="dcterms:W3CDTF">2012-08-15T17:26:48Z</dcterms:modified>
  <cp:revision>67</cp:revision>
  <dc:subject/>
  <dc:title>RCS ELA Common Core and Essential Standards Training</dc:title>
</cp:coreProperties>
</file>